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C8F-AD52-4745-8CA8-05A54157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A31-65E9-4E16-9025-83BC50D3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8E80F-ACAE-4149-91FB-81282860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C2DDD-FE09-4C38-92DE-CF29B205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84F2E-D522-4883-860D-96428694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865E9-F156-47B9-BC2C-07DA0911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E535D-3834-46D3-959D-5EB14DD5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D109B-0711-4F23-9045-AAC4382F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920E9-6500-4BB5-A420-12F8F8A8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C348C-6CA7-4146-A9A4-236A20CF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10B38-F45D-46FA-9058-AA5D73E7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323B8-43EF-4414-A072-0B05C92E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CCE-796F-4E06-8121-60E1C8EE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6F04D-6014-4057-8496-76EC301E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5CD0D-F999-4765-956C-5381F602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4DC42-FBAA-4433-897B-F9E4F346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CD39B-FA6D-4281-94BD-7E762467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44E7B-FA0B-47EE-B390-4E9078A7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7B549-8A08-4106-A77B-E34F462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51FDB-C489-4C16-B111-45F3BE8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37745-C588-4C91-9970-74F0677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68F47-36FD-4ADF-9756-2C963148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34497-2EAD-412A-B497-B6C1CE8E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228-0BF9-423D-8771-50FA7B49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4274-A98B-4C46-AE75-CB57A287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4D509-2277-40A5-8CA2-99E45C58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3CAB2-530D-47B1-806D-3D8C0A81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CB546-9B85-454C-A23D-DE2A78F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7DAAF-C3A7-4190-8613-755DD2DD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0EC9B-F9E3-4C90-8D8C-8C139FCB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71B90-CC02-4E8F-9B68-8CAA23EB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E4AD7-D441-4958-A41B-DC11DB4F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A9C2C-E3B7-43B5-B8F4-0BC08D6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B6748-49DE-4F81-9515-2860BE5F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FD70-0663-4D15-9D71-918DFEFD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2AC27-F5C8-461D-AF8A-770CDA59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5EEEA-25F9-4513-95E9-539E5EB2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E01A7-603E-4033-A877-1EAEB8F7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13BF5-9B19-43BC-88C4-AE1016AF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2F5C6-7252-4D66-8A11-FAE91C9B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AB88A-AE32-4A5C-B796-05111781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4D3F1-7CD9-411D-B7EE-F1777E2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DFA9B-9747-4522-B8ED-920F3B4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A4FC8-8F94-4EE2-88F1-A4E7E3CA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33C31-E899-43C9-A2D0-157D070C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1CB-F65A-4A8A-AAFF-E7E03451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C58AB-623A-4DF1-9DCF-31437DD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1ECED-087B-4976-AB38-DF354F67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0E46C-2F67-41AF-BAA7-0FE902AE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237BD-835F-4FF2-8BC0-F336EEB3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D402F-1F51-42EB-84F0-5AFCFF85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9A35-252E-48C5-B338-6495E0A8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3BBC-8C40-45E1-B17A-35BEC6E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17BE-2A49-4061-B161-22C6C8AE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632A-8B78-4FF4-BCC6-0A0A334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2605-8A62-478B-951D-28094D6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D56-BE07-457E-914A-C4F87C77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F9D-DA63-46AA-A134-4ABA8C76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ADCE-3726-438B-ADA3-FD63103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EE36-6666-430E-914F-35C1437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F402-204B-46C3-BCF1-3B8B05A8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2C5E-241F-4ED7-A5B6-D3792BF0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DEE7-8D28-4EB2-B82A-9E70ED23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7C36E-4927-482D-9FD9-4215594F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5A6E8-C881-4DD4-B6E5-5A90F40F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A0B5-8003-4C3E-8AC3-83CA1EB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BFFC-A6E2-4816-982C-6F3B28F6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DFE-9617-4288-9368-C56EDBE1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EBC8-7109-4CAB-96C5-802DBBEA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CF3D-2A36-463C-A7CC-48D34460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B61A-FF03-4D92-9A8E-4F581BEC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D94C-E42B-41E2-A07E-E0F83743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344EA-6E11-4607-B748-8801992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1C42-6777-4A90-A731-61793792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E18F-5D25-4A57-AA25-3F73EF79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73AE-AABB-4324-9AFA-E2D24CC3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3124C-5B4C-4C39-8BE0-EEA8C287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9496-7900-4266-9863-8AB240BC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29B-26E9-4717-9861-81446C7F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468D-01F8-44C2-9048-FB9C2D81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CAA8-2690-411E-9988-E468693D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39A0D-B30F-403C-A3F9-E1CA472F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F5A5-5226-4232-929A-E68E8AA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37854-DAAB-4013-BE92-575FAF0A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CED7-C8B4-4CEC-8D7F-EB668B78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A5ED-0758-4D03-8CD6-BDE97945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E56C3-F090-48E0-861C-94F2B883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DCB9-EB67-45E7-AE2F-4676DBA6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E9D2-B6F1-469C-B36C-C79F123F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721-0A0E-4D10-BDE4-25A6B810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B1E7F-15B4-482E-888F-18D24E2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D643-6816-4049-8609-39159C4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A1F38-34E6-4283-912B-00F1748F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AE71-9E6C-4A89-BF25-CBE4B014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CCD3-F118-426A-A090-6C860E8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7C4A4-8B26-44EC-8C6E-7587147A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729C-AAE5-4338-ABDF-262762E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BD8FB-96F4-4903-9DC2-5A3B2B2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F200-079B-436E-BC3D-DCCB1DDC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A9DE-D329-497F-A0D7-A701055E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CD87-DC8F-4C74-ABCF-B90C3365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12E6C-1FE2-4E06-8D8F-012E161D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4E66-428E-4CBE-9D81-010DABEB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A51A8-AC0C-405F-A1FA-F2F33512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55379-662A-4BDB-9D01-85AA92DB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8A21F-DDB8-452D-AE2A-D527F80A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12C7-9BF6-4CDF-A5FE-11AF7C88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1B375-E703-4C2A-92D5-16822368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2BF0-1762-4295-B094-91230DC3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74AF2-0245-4A48-ACFF-BAEC88C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89904-7AFF-46CD-AD82-E7605033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D10-9B16-4C8D-A27A-D6E4673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4BAB9-29C4-42A6-9C1B-A2370193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62BB-6C5D-4602-8BCA-18A6DC1F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54B72-D81E-4218-9789-60926BD7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77DE1-072D-42FD-B5AB-99660D78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140EE-50A5-4A5F-A435-ED3025FF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B70C-5452-4021-96CB-76C437AB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1433C-958A-4145-8828-DE097630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1806-1E7E-49C9-9173-8AD7D207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DE429-7CCF-4312-A4D0-29548B1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468E-9410-40F0-A9E3-8DFFFBA1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A86-EA79-4DBF-84CF-CB3C242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081F-C54B-45E5-9880-0F35F2C4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2606-AB55-44DC-8521-9865BB91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B9ACA-4F3C-421A-9C7B-7B9D0C4E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3E30A-FFCE-4216-A1C6-538CA336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17F95-93DE-4B8B-914D-078709EC9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3A133-0FC6-457B-9758-AC5DECA3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51F54-489A-4F76-9F11-61A0679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E46D2-E86A-472C-82A5-4BBC5178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62D7A-A65B-49A7-9F8D-8E345546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7C8C7-78F5-44CB-9208-C57F22F7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B6B-05C1-4541-BC9C-3AB031F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5A22-8ADE-406A-A050-C2EAD0A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CADB9-8E25-4E5C-A16F-88597B68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A1CA5-A103-4471-B34A-8556EF0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3DD89-D0A6-4A2F-9919-7D65ED19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8FCC-9E7A-4138-9611-8AD1EABB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5D1B4-BE90-42A0-83F8-F8026A32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CB8F0-C336-4C3C-9BAC-47E56E67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06DEF-AAE2-4C66-9580-4A6EF4C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1B689-475F-4B0E-9AEA-DF71633D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78C51-9378-4F8E-8267-9482A51A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2DE5-F6BC-4930-BD93-31037B61C2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3951-41FA-493A-A98D-A2F3B46506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B05-6949-483C-8D3A-11A35B9E1D6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704C-46AF-4239-A717-080AA6E2EFF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9E78-62A8-4437-ACE5-91E048F42E8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17D-099E-4F17-9E68-1CF1EFFFE8A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B3D-7DE0-434A-9142-EE5BD88FDC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0BD3-EC19-4710-858A-8598165FEE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9A5-8A4E-40AC-9971-D2373F06877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B50-3FE5-44C8-963C-45608839E7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8EDC-64B5-4676-9452-BCD93229EFD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742A-D593-41C4-ABD1-5AC039CABE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Pr</a:t>
            </a:r>
            <a:r>
              <a:rPr b="1" lang="hr-HR" sz="4400" spc="-1" strike="noStrike">
                <a:solidFill>
                  <a:srgbClr val="fb1e19"/>
                </a:solidFill>
                <a:latin typeface="Arial"/>
                <a:ea typeface="Arial"/>
              </a:rPr>
              <a:t>omjena unutarnje energije</a:t>
            </a:r>
            <a:br>
              <a:rPr sz="4400"/>
            </a:br>
            <a:r>
              <a:rPr b="1" lang="hr-HR" sz="4400" spc="-1" strike="noStrike">
                <a:solidFill>
                  <a:srgbClr val="fb1e19"/>
                </a:solidFill>
                <a:latin typeface="Arial"/>
                <a:ea typeface="Arial"/>
              </a:rPr>
              <a:t>toplin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380880" y="1447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perje štiti pticu od hladnoć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voda provrije u lončiću stavljenom na štedn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35812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6"/>
          <p:cNvSpPr/>
          <p:nvPr/>
        </p:nvSpPr>
        <p:spPr>
          <a:xfrm>
            <a:off x="810000" y="1371600"/>
            <a:ext cx="71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av osjet daju jednako hlad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do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d kamen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veta stanemo li na nji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4557600" cy="1981080"/>
          </a:xfrm>
          <a:prstGeom prst="rect">
            <a:avLst/>
          </a:prstGeom>
          <a:ln w="0">
            <a:noFill/>
          </a:ln>
        </p:spPr>
      </p:pic>
      <p:pic>
        <p:nvPicPr>
          <p:cNvPr id="562" name="Slika 4" descr=""/>
          <p:cNvPicPr/>
          <p:nvPr/>
        </p:nvPicPr>
        <p:blipFill>
          <a:blip r:embed="rId2"/>
          <a:stretch/>
        </p:blipFill>
        <p:spPr>
          <a:xfrm>
            <a:off x="458640" y="838080"/>
            <a:ext cx="13557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8"/>
          <p:cNvSpPr/>
          <p:nvPr/>
        </p:nvSpPr>
        <p:spPr>
          <a:xfrm>
            <a:off x="1701000" y="685800"/>
            <a:ext cx="55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ijenos topline vođenjem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86040" y="1650960"/>
            <a:ext cx="8847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jelaz topline između dvaju tijela različitih temperatura u dodi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ziva  se vođenje topline (kondukci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611280" y="3048120"/>
            <a:ext cx="764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i izo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oš vodič topline (staklo, zrak, stiropor, kamena vu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i vodič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bar vodič topline (metal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stiropor"/>
          <p:cNvPicPr/>
          <p:nvPr/>
        </p:nvPicPr>
        <p:blipFill>
          <a:blip r:embed="rId1"/>
          <a:stretch/>
        </p:blipFill>
        <p:spPr>
          <a:xfrm>
            <a:off x="6248520" y="4344840"/>
            <a:ext cx="2565360" cy="19288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6"/>
          <p:cNvSpPr/>
          <p:nvPr/>
        </p:nvSpPr>
        <p:spPr>
          <a:xfrm>
            <a:off x="4797000" y="586728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blaganje zid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tiropo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8"/>
          <p:cNvSpPr/>
          <p:nvPr/>
        </p:nvSpPr>
        <p:spPr>
          <a:xfrm>
            <a:off x="1549440" y="6094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ijenos topline strujanjem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1350720" y="1628640"/>
            <a:ext cx="6122880" cy="1191240"/>
          </a:xfrm>
          <a:prstGeom prst="rect">
            <a:avLst/>
          </a:prstGeom>
          <a:noFill/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tekućinama i plinovima toplina se preno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ujanjem (konvekcij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1"/>
          <a:stretch/>
        </p:blipFill>
        <p:spPr>
          <a:xfrm>
            <a:off x="642960" y="3500280"/>
            <a:ext cx="3906720" cy="2667240"/>
          </a:xfrm>
          <a:prstGeom prst="rect">
            <a:avLst/>
          </a:prstGeom>
          <a:ln w="0">
            <a:noFill/>
          </a:ln>
        </p:spPr>
      </p:pic>
      <p:sp>
        <p:nvSpPr>
          <p:cNvPr id="571" name="Rounded Rectangular Callout 5"/>
          <p:cNvSpPr/>
          <p:nvPr/>
        </p:nvSpPr>
        <p:spPr>
          <a:xfrm>
            <a:off x="5029200" y="3276720"/>
            <a:ext cx="2571840" cy="1108080"/>
          </a:xfrm>
          <a:prstGeom prst="wedgeRoundRectCallout">
            <a:avLst>
              <a:gd name="adj1" fmla="val -69787"/>
              <a:gd name="adj2" fmla="val 108708"/>
              <a:gd name="adj3" fmla="val 16667"/>
            </a:avLst>
          </a:prstGeom>
          <a:solidFill>
            <a:srgbClr val="f2dcdb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ružno strujanje zraka uz toplu pe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733560" cy="2720880"/>
          </a:xfrm>
          <a:prstGeom prst="rect">
            <a:avLst/>
          </a:prstGeom>
          <a:ln w="0">
            <a:noFill/>
          </a:ln>
        </p:spPr>
      </p:pic>
      <p:sp>
        <p:nvSpPr>
          <p:cNvPr id="573" name="Rounded Rectangular Callout 4"/>
          <p:cNvSpPr/>
          <p:nvPr/>
        </p:nvSpPr>
        <p:spPr>
          <a:xfrm>
            <a:off x="4267080" y="838080"/>
            <a:ext cx="4143600" cy="2057400"/>
          </a:xfrm>
          <a:prstGeom prst="wedgeRoundRectCallout">
            <a:avLst>
              <a:gd name="adj1" fmla="val -30726"/>
              <a:gd name="adj2" fmla="val 81328"/>
              <a:gd name="adj3" fmla="val 16667"/>
            </a:avLst>
          </a:prstGeom>
          <a:solidFill>
            <a:srgbClr val="f2dcdb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trujanje zraka u prirodi nastaje zbog nejednakog zagrijavanja različitih dijelova Zemljine površ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uragan"/>
          <p:cNvPicPr/>
          <p:nvPr/>
        </p:nvPicPr>
        <p:blipFill>
          <a:blip r:embed="rId2"/>
          <a:stretch/>
        </p:blipFill>
        <p:spPr>
          <a:xfrm>
            <a:off x="304920" y="1295280"/>
            <a:ext cx="3886200" cy="29149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445320" y="42274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što nastaju uraga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735200" y="63036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rijenos topline zračenjem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650160" y="1077840"/>
            <a:ext cx="8224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jelaz topline zračenjem ili radijacij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ijana tijela isijavaju toplinu u okolinu. To je tz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o ili infracrveno zračenje.Tijela koja zrače pri 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e hl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a na koje padne zračenje dijelom ga upijaju, dijel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bijaju, a dijelom propuštaju. Upijanjem energije zrač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ijela se zagrijav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5"/>
          <p:cNvSpPr/>
          <p:nvPr/>
        </p:nvSpPr>
        <p:spPr>
          <a:xfrm>
            <a:off x="7162920" y="51055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Zračenje to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palma"/>
          <p:cNvPicPr/>
          <p:nvPr/>
        </p:nvPicPr>
        <p:blipFill>
          <a:blip r:embed="rId1"/>
          <a:stretch/>
        </p:blipFill>
        <p:spPr>
          <a:xfrm>
            <a:off x="4876920" y="4417920"/>
            <a:ext cx="19256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Box 3"/>
          <p:cNvSpPr/>
          <p:nvPr/>
        </p:nvSpPr>
        <p:spPr>
          <a:xfrm>
            <a:off x="272520" y="1676520"/>
            <a:ext cx="89420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može toplina prelaziti s tijela na tije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da toplina prelazi s tijela na tijelo vođenj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nam se kad puše vjetar čini da je vani hladnije nego što je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uglavnom toplina prenosi kroz tekućine i plino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vedi primjer prelaska topline zračen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ed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ke primjere dobrih vodiča top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su toplinski izolatori? Gdje se koris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je u termosici napitak vruć i nekoliko sati nakon š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smo ga spravi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Slika 2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3886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8:52:51Z</dcterms:modified>
  <cp:revision>39</cp:revision>
  <dc:subject/>
  <dc:title>Slide 1</dc:title>
</cp:coreProperties>
</file>